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5FE5-398F-499B-A505-5ED501A7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87DC-C9A3-4526-9FDE-C1A62327B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7DCB-3240-4A13-9F85-49AE618CA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8170-7EFD-4D1E-B94B-BC6AE6D94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1410-4C98-4D91-9B53-9FAD79A4E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BDE1-FD23-4F1B-BD6B-F67007ECB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F740-B6E7-43BA-818D-9FE88D56C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1779-EA24-40AF-8795-CC727FF03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3589-02EE-45C0-982D-F06D6ED26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A687-E517-4CA9-8CF5-D03790A3D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F2A4-A32C-4516-9395-71AE2B3AC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DEAE-7853-482E-A2E9-1CCD23B70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CC6-9C64-4AE0-8AFF-D45416C848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…Responding to Students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E4D9-8829-41EB-B15A-E645C8343E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3276720" y="2552760"/>
            <a:ext cx="3044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tudent samples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8D8-F3B1-4EE9-ABB7-85820C2160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engage in the Math Congres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46F-3AD4-4F40-8BAA-B88CE5B048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4920" y="41148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ccess criteria which would help you provide descriptive feedback over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3BC-A205-48D1-B016-3433772A23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x3 grid of squares wit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429000" y="1295280"/>
            <a:ext cx="1143000" cy="990720"/>
            <a:chOff x="3429000" y="1295280"/>
            <a:chExt cx="1143000" cy="990720"/>
          </a:xfrm>
        </p:grpSpPr>
        <p:sp>
          <p:nvSpPr>
            <p:cNvPr id="118" name="Rectangle 10"/>
            <p:cNvSpPr/>
            <p:nvPr/>
          </p:nvSpPr>
          <p:spPr>
            <a:xfrm>
              <a:off x="342900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80988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19112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42900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3809880" y="1625400"/>
              <a:ext cx="380880" cy="33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419112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342900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380988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19112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Clapping Activity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DEB5-47C4-4F5D-BD11-9C3E6948F2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60FC-AAE8-4158-B0E3-8A26851AEE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6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56" name="Oval 7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66" name="Oval 17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Math Congress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3CD-174E-4B50-A3A8-FB34741F37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264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466-CB4A-42D7-AA17-46554412C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Triangle Do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2FA-05C7-4237-91B0-E472D429D2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velop success criteria which will be used to provide descriptive feedback over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EEE3-3CD1-49D5-BB0A-13F00F73CA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2FE-9507-46E9-8CB6-D973AB129E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Gallery Walk using 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CDB6-1D21-4874-ADF3-9A53ECE024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9T14:55:10Z</dcterms:modified>
  <cp:revision>77</cp:revision>
  <dc:subject/>
  <dc:title>&lt;Title&gt;</dc:title>
</cp:coreProperties>
</file>